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d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6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23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123e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23e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123e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123e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4250160" y="6540480"/>
            <a:ext cx="64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401E-6326-4584-ADB2-AB47107004C4}" type="slidenum">
              <a:rPr b="0" lang="es-ES_tradnl" sz="1100" spc="-1" strike="noStrike">
                <a:solidFill>
                  <a:srgbClr val="003f52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"/>
          <p:cNvPicPr/>
          <p:nvPr/>
        </p:nvPicPr>
        <p:blipFill>
          <a:blip r:embed="rId2"/>
          <a:stretch/>
        </p:blipFill>
        <p:spPr>
          <a:xfrm>
            <a:off x="7962840" y="6399360"/>
            <a:ext cx="1015920" cy="2743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2"/>
          <p:cNvSpPr/>
          <p:nvPr/>
        </p:nvSpPr>
        <p:spPr>
          <a:xfrm>
            <a:off x="129240" y="6372720"/>
            <a:ext cx="823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123e51"/>
                </a:solidFill>
                <a:latin typeface="Arial Bold"/>
                <a:ea typeface="MS PGothic"/>
              </a:rPr>
              <a:t>Á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123e51"/>
                </a:solidFill>
                <a:latin typeface="Arial"/>
                <a:ea typeface="MS PGothic"/>
              </a:rPr>
              <a:t>Razón So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72960" y="1557360"/>
            <a:ext cx="7078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  <a:ea typeface="MS PGothic"/>
              </a:rPr>
              <a:t>Comentarios Borr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  <a:ea typeface="MS PGothic"/>
              </a:rPr>
              <a:t>Subasta 900 y 1900 MH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382680" y="870120"/>
            <a:ext cx="1296720" cy="353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372960" y="3197160"/>
            <a:ext cx="5948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MS PGothic"/>
              </a:rPr>
              <a:t>Noviembr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GENERALES AL PROCESO</a:t>
            </a:r>
            <a:endParaRPr b="0" lang="en-US" sz="20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6520" y="763560"/>
            <a:ext cx="822960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Avance positivo en la búsqueda del desarrollo tecnológico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Oportunidad de los PRSTM de mejorar las condiciones de prestación de servicios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Mayor satisfacción por </a:t>
            </a:r>
            <a:r>
              <a:rPr b="0" lang="es-CO" sz="1800" spc="-1" strike="noStrike">
                <a:solidFill>
                  <a:srgbClr val="123e51"/>
                </a:solidFill>
                <a:latin typeface="Arial"/>
              </a:rPr>
              <a:t>parte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 del cliente final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o obstante….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Aún sin resolver temas de calidad en la prestación de servicios móviles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lvl="1" marL="259920" indent="-99720">
              <a:spcBef>
                <a:spcPts val="349"/>
              </a:spcBef>
              <a:buClr>
                <a:srgbClr val="00c6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123e51"/>
                </a:solidFill>
                <a:latin typeface="Arial"/>
              </a:rPr>
              <a:t>Dificultad en el acceso a sitios: Carreteras deficientes</a:t>
            </a: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 lvl="1" marL="259920" indent="-99720">
              <a:spcBef>
                <a:spcPts val="349"/>
              </a:spcBef>
              <a:buClr>
                <a:srgbClr val="00c6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123e51"/>
                </a:solidFill>
                <a:latin typeface="Arial"/>
              </a:rPr>
              <a:t>Orden público y seguridad</a:t>
            </a: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 lvl="1" marL="259920" indent="-99720">
              <a:spcBef>
                <a:spcPts val="349"/>
              </a:spcBef>
              <a:buClr>
                <a:srgbClr val="00c6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123e51"/>
                </a:solidFill>
                <a:latin typeface="Arial"/>
              </a:rPr>
              <a:t>Despliegue de infraestructura y oposición de la comunidad</a:t>
            </a: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46" name="Cerrar llave 1"/>
          <p:cNvSpPr/>
          <p:nvPr/>
        </p:nvSpPr>
        <p:spPr>
          <a:xfrm>
            <a:off x="5832360" y="3500280"/>
            <a:ext cx="216000" cy="7556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755640"/>
              <a:gd name="textAreaBottom" fmla="*/ 75024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d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ángulo 2"/>
          <p:cNvSpPr/>
          <p:nvPr/>
        </p:nvSpPr>
        <p:spPr>
          <a:xfrm>
            <a:off x="6372360" y="3554280"/>
            <a:ext cx="167616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123e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uevos sitios a cubr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adroTexto 6"/>
          <p:cNvSpPr/>
          <p:nvPr/>
        </p:nvSpPr>
        <p:spPr>
          <a:xfrm>
            <a:off x="179280" y="4941720"/>
            <a:ext cx="8640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olicitud: Mintic y ANE promuevan la revisión con la CRC de los indicadores de calidad a aplicar en las localidades aisladas que deberán cubrir los nuevos asignatarios en este proceso. De lo contrario, se tendrían riesgos muy altos de incumplimiento.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GENERALES AL PROCESO</a:t>
            </a:r>
            <a:endParaRPr b="0" lang="en-US" sz="20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6520" y="76356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123e51"/>
                </a:solidFill>
                <a:latin typeface="Arial"/>
              </a:rPr>
              <a:t>TOPES DE ESPECTRO: 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c6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o permiten que Telefónica participe por espectro en banda 900 MHz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c6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123e51"/>
                </a:solidFill>
                <a:latin typeface="Arial"/>
              </a:rPr>
              <a:t>Deja a la compañía sin posibilidad de aprovechar oportunidades para mejorar la prestación del servicio en bandas bajas</a:t>
            </a: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</p:txBody>
      </p:sp>
      <p:pic>
        <p:nvPicPr>
          <p:cNvPr id="51" name="4 Diagrama" descr=""/>
          <p:cNvPicPr/>
          <p:nvPr/>
        </p:nvPicPr>
        <p:blipFill>
          <a:blip r:embed="rId1"/>
          <a:stretch/>
        </p:blipFill>
        <p:spPr>
          <a:xfrm>
            <a:off x="182520" y="2554200"/>
            <a:ext cx="871704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5 CuadroTexto"/>
          <p:cNvSpPr/>
          <p:nvPr/>
        </p:nvSpPr>
        <p:spPr>
          <a:xfrm>
            <a:off x="468360" y="19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123e51"/>
                </a:solidFill>
                <a:latin typeface="Arial"/>
              </a:rPr>
              <a:t>CASO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6"/>
          <p:cNvSpPr/>
          <p:nvPr/>
        </p:nvSpPr>
        <p:spPr>
          <a:xfrm>
            <a:off x="179280" y="5229360"/>
            <a:ext cx="8640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olicitud: Revisión de los topes de espectr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e debe evitar poner en riesgo el uso eficiente del espectro sobre empresas entrantes sobre la base de mayor competenc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6836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 u="sng">
                <a:solidFill>
                  <a:srgbClr val="00c6d7"/>
                </a:solidFill>
                <a:uFillTx/>
                <a:latin typeface="Arial"/>
              </a:rPr>
              <a:t>Obligación de resintonización de fr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arcador de contenido 2"/>
          <p:cNvSpPr/>
          <p:nvPr/>
        </p:nvSpPr>
        <p:spPr>
          <a:xfrm>
            <a:off x="495360" y="1413000"/>
            <a:ext cx="83739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La UIT indica tres criterios para reorganizar el espect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a) una atribución que ya no satisface las demandas de los usuarios o las 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capacidades de los sistemas modern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b) nueva atribución que no permite la compartición de frecuencia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c) Una nueva atribución decidida en una C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Por tanto un </a:t>
            </a:r>
            <a:r>
              <a:rPr b="1" i="1" lang="es-CO" sz="1600" spc="-1" strike="noStrike">
                <a:solidFill>
                  <a:srgbClr val="123e51"/>
                </a:solidFill>
                <a:latin typeface="Arial"/>
              </a:rPr>
              <a:t>“nuevo proceso de asignación”, 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o es un argumento para establecer la obligación de resintonización de frecu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Adicionalmente se debe analizar el impacto que puede ser causado en las empresas, tanto económico como en la operación misma y en la prestación del servicio a los usuarios f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123e51"/>
                </a:solidFill>
                <a:latin typeface="Arial"/>
              </a:rPr>
              <a:t>ARTÍCULO DÉCIMO SÉPTIMO. OBLIGACIONES ESPECÍFICAS DE LOS ASIGNATARIOS. Litera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68360" y="33336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partición de Infraestructura para Red de Emerg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arcador de contenido 2"/>
          <p:cNvSpPr/>
          <p:nvPr/>
        </p:nvSpPr>
        <p:spPr>
          <a:xfrm>
            <a:off x="447840" y="558972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123e51"/>
                </a:solidFill>
                <a:latin typeface="Arial"/>
              </a:rPr>
              <a:t>ANEXO 4 - CONDICIONES PARA SOSTENIBILIDAD DEL PERMISO EN LA BANDA DE 900 MHZ Y 1.900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257ea5"/>
                </a:solidFill>
                <a:latin typeface="Arial"/>
              </a:rPr>
              <a:t>4. COMPARTICIÓN DE LA INFRAESTRUCTURA DE SOPORTE DE LAS REDES INALÁMBRICAS PARA LA IMPLEMENTACIÓN DE LA RED NACIONAL DE TELECOMUNICACIONES DE EMERG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contenido 2"/>
          <p:cNvSpPr/>
          <p:nvPr/>
        </p:nvSpPr>
        <p:spPr>
          <a:xfrm>
            <a:off x="439560" y="1305000"/>
            <a:ext cx="83743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o se tiene claridad frente a las obligaciones a cumpli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1 Diagrama" descr=""/>
          <p:cNvPicPr/>
          <p:nvPr/>
        </p:nvPicPr>
        <p:blipFill>
          <a:blip r:embed="rId1"/>
          <a:stretch/>
        </p:blipFill>
        <p:spPr>
          <a:xfrm>
            <a:off x="450720" y="895320"/>
            <a:ext cx="8418600" cy="44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68360" y="3333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ndiciones de despli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rcador de contenido 2"/>
          <p:cNvSpPr/>
          <p:nvPr/>
        </p:nvSpPr>
        <p:spPr>
          <a:xfrm>
            <a:off x="447840" y="558972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123e51"/>
                </a:solidFill>
                <a:latin typeface="Arial"/>
              </a:rPr>
              <a:t>ANEXO 4 - CONDICIONES PARA SOSTENIBILIDAD DEL PERMISO EN LA BANDA DE 900 MHZ Y 1.900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257ea5"/>
                </a:solidFill>
                <a:latin typeface="Arial"/>
              </a:rPr>
              <a:t>7. CONDICIONES DE DESPLIEGUE DE RED  literal g. Condiciones de despliegue de red para asignatarios de la banda de 900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contenido 2"/>
          <p:cNvSpPr/>
          <p:nvPr/>
        </p:nvSpPr>
        <p:spPr>
          <a:xfrm>
            <a:off x="376200" y="4581360"/>
            <a:ext cx="8301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olicitud: Consideramos importante conocer las razones por las cuales se impone esta obligación en las condiciones diferenciales descrit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 Diagrama" descr=""/>
          <p:cNvPicPr/>
          <p:nvPr/>
        </p:nvPicPr>
        <p:blipFill>
          <a:blip r:embed="rId1"/>
          <a:stretch/>
        </p:blipFill>
        <p:spPr>
          <a:xfrm>
            <a:off x="2305080" y="1547640"/>
            <a:ext cx="3645000" cy="1976760"/>
          </a:xfrm>
          <a:prstGeom prst="rect">
            <a:avLst/>
          </a:prstGeom>
          <a:ln w="0">
            <a:noFill/>
          </a:ln>
        </p:spPr>
      </p:pic>
      <p:sp>
        <p:nvSpPr>
          <p:cNvPr id="64" name="3 CuadroTexto"/>
          <p:cNvSpPr/>
          <p:nvPr/>
        </p:nvSpPr>
        <p:spPr>
          <a:xfrm>
            <a:off x="611280" y="386064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La cantidad de localidades debería ser proporcional a la cantidad de espectro asignado y al cubrimiento de acuerdo con la propagación en cada b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68360" y="3333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ndiciones generales de partici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Marcador de contenido 2"/>
          <p:cNvSpPr/>
          <p:nvPr/>
        </p:nvSpPr>
        <p:spPr>
          <a:xfrm>
            <a:off x="447840" y="558972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123e51"/>
                </a:solidFill>
                <a:latin typeface="Arial"/>
              </a:rPr>
              <a:t>LITERAL C. NUMERAL 1 ARTÍCULO TERC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contenido 2"/>
          <p:cNvSpPr/>
          <p:nvPr/>
        </p:nvSpPr>
        <p:spPr>
          <a:xfrm>
            <a:off x="465120" y="2133720"/>
            <a:ext cx="8300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olicitud: Aclaración sobre diversos puntos relacionados con la asignación del permiso de uso de espectro a Consorcios y Uniones tempora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2997360" y="2997360"/>
            <a:ext cx="3149280" cy="86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tos Garcia,Cesar</dc:creator>
  <dc:description/>
  <dc:language>en-US</dc:language>
  <cp:lastModifiedBy>Diana Marcela Arias Rojas</cp:lastModifiedBy>
  <cp:lastPrinted>2013-05-07T10:14:36Z</cp:lastPrinted>
  <dcterms:modified xsi:type="dcterms:W3CDTF">2014-11-26T20:38:28Z</dcterms:modified>
  <cp:revision>23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